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68A-4A08-454E-B68F-E8268A2E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CA9-564E-478D-85A7-2BC4457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8BA-8988-44FE-919F-32D0682A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05B-243B-47C7-813E-B1AE8C7B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399-9D1F-4834-A19E-4D847EB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302-146A-4804-93FF-AF0E8FF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F83-58AB-4EBA-B9C1-72FF36DD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12A-DD5F-4931-809C-BE290500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D2A-4FF3-4488-9C8A-055C2A3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7A4-848F-4C11-9D4F-5E419E0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A06-7CE4-4D2D-9305-0EB0CFF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9FF-CE6B-40EF-BCF3-CB9077F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4422-DD62-4D8C-BD84-72669D4C7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10200" cy="107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581280" cy="8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731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391520" cy="24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229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20120" cy="397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8763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71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76201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387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8458200" cy="73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510552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486400" cy="489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19520" y="30481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4197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25:40Z</dcterms:created>
  <dc:creator>grahams</dc:creator>
  <dc:description/>
  <dc:language>en-US</dc:language>
  <cp:lastModifiedBy>grahams</cp:lastModifiedBy>
  <dcterms:modified xsi:type="dcterms:W3CDTF">2012-03-22T12:53:06Z</dcterms:modified>
  <cp:revision>2</cp:revision>
  <dc:subject/>
  <dc:title>Slide 1</dc:title>
</cp:coreProperties>
</file>